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920" y="86742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0" y="86742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880" y="6089760"/>
            <a:ext cx="635364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WITNESS WHEREOF, THE PARTIES HERETO HAVE EXECUTED THIS CONTRACT AS OF TH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ERED ON THE FIRST PAGE HERE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                     CONTR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S/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WENDELL PURCHASE, LTC, INF  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SMITH BROTHERS BLDG &amp; SUPPLY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NAME OF CONTRACT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URCHASING &amp; CONTRACTING OFFICER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    /S/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OFFICIAL TITLE)                         (SIGNA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PARTNER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TIT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HE FULL NAME AND BUSINESS ADDRESS OF THE CONTRACTOR MUST BE INSERTED IN THE SPACE PROVIDE O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ACE OF THE FORM.  THE CONTRACTOR SHALL SIGN IN THE SPACE PROVIDED ABOVE WITH HIS USUAL SIGNATUR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YPEWRITE OR PRINT HIS NAME UNDER THE SIGNATUR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920" y="86742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0520" y="45576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840" y="2436840"/>
            <a:ext cx="6235560" cy="269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6480" y="548496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0760" y="6703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560" y="801036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541656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1040" y="8458200"/>
            <a:ext cx="623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541656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1040" y="5410080"/>
            <a:ext cx="623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0" y="876312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3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920" y="876312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920" y="876312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920" y="86868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4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920" y="86868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4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31760" y="13968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AD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920" y="86868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4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______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920" y="86868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4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9800" y="2443320"/>
            <a:ext cx="6353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______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920" y="86868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4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920" y="86868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53080" y="525780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920" y="86868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5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920" y="86868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5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920" y="86868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5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20" y="86742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20" y="86742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920" y="243828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TRAVEL ADVANCE  FUNCTION       BLOCK NUMBER______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DUE                    LAST         U  ORDER   VOUCHER         RECL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DATE  EOR  APC   ODC   NAME   SSN   C  NUMBER  NUMBER  AMOUNT  WR-OFF IBOP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5620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872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362320"/>
            <a:ext cx="0" cy="36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57913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920" y="86742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920" y="86742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920" y="86742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0160" y="20559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3656160"/>
            <a:ext cx="6148080" cy="132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DUE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DATE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 _  ____  ___  ___ ___ ____ ___ _  ______   _______  ______  ___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0160" y="5103720"/>
            <a:ext cx="61480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6480" y="6558120"/>
            <a:ext cx="6079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7000" y="304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4572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7621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1430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5238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920" y="8674200"/>
            <a:ext cx="349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BLOCK NUMBER______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              OBS/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___   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680" y="8674200"/>
            <a:ext cx="674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B                                                                        29                                                                                          Dec 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0T14:03:52Z</dcterms:created>
  <dc:creator>Soldier Support Institute</dc:creator>
  <dc:description/>
  <dc:language>en-US</dc:language>
  <cp:lastModifiedBy>Administrator</cp:lastModifiedBy>
  <cp:lastPrinted>2001-01-11T12:44:12Z</cp:lastPrinted>
  <dcterms:modified xsi:type="dcterms:W3CDTF">2005-03-22T14:51:36Z</dcterms:modified>
  <cp:revision>44</cp:revision>
  <dc:subject/>
  <dc:title>No Slide Title</dc:title>
</cp:coreProperties>
</file>